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BDD-89FB-46ED-ABE0-4B1A1991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DAA-0D0C-44B5-A8C1-A3B5D851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8F1-B144-438A-B6C9-FA66C10B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F44-1F88-4CBB-8D32-A13561FA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A004-B85E-4C31-9C6B-E2F505E0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F17F-AF63-45C0-A7EF-435B9AD3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720C-1C4D-41CC-8D6F-0B2DDFB3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29E2-A9C3-4782-B9DD-2B9B2E87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DCDA-531C-49CA-AAD3-8915BE23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6F86-D3BB-4D55-A65F-1231491E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4533-FA83-4966-B5F3-966961A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19D-8584-4A07-9C36-6B4F35F2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4E96-73BB-47A2-9664-D573C5D6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EE44-0A6B-453F-9412-BE92B0A0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C3E5-227A-4A85-9990-74301CE6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B8C9-C3C9-4FB9-98A4-B8CBC408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FE77-42E4-46D0-A626-6E066F63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22D-23D5-417B-99A2-BAB00D9E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515-28EE-4AD0-A13C-2C6B101B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255-CEF3-4D66-96DC-EC44DA47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841-CF4C-4C32-B0F3-62D60FCC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2B5-14AB-4744-A0C7-AF4F9A9E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5FF-5695-4EE9-8197-638C3C60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2D7-BB95-4313-93B9-E57632F4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66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D454-FFEA-4EAC-ABC4-4ACF05B08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66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1B81-3D78-46BF-BB20-0CAAD752A15A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27.media.tumblr.com/tumblr_kz6dupX1Si1qasssyo1_400.jpg&amp;imgrefurl=http://www.tumblr.com/tagged/hot%2Bhistorical%2Bfigures&amp;usg=__P-1bR43-wUVnv0naPW2fkiY4knM=&amp;h=263&amp;w=293&amp;sz=12&amp;hl=en&amp;start=1&amp;zoom=1&amp;um=1&amp;itbs=1&amp;tbnid=bSJlQ-WagMxsNM:&amp;tbnh=103&amp;tbnw=115&amp;prev=/images%3Fq%3Dyoung%2Bhernando%2Bcortes%26um%3D1%26hl%3Den%26rls%3Dcom.microsoft:*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madamepickwickartblog.com/wp-content/uploads/2010/04/cortez2.jpg"/>
          <p:cNvPicPr/>
          <p:nvPr/>
        </p:nvPicPr>
        <p:blipFill>
          <a:blip r:embed="rId1"/>
          <a:stretch/>
        </p:blipFill>
        <p:spPr>
          <a:xfrm>
            <a:off x="4267080" y="1447920"/>
            <a:ext cx="3657600" cy="487656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380880" y="1981080"/>
            <a:ext cx="38862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98cff"/>
                </a:solidFill>
                <a:latin typeface="Arial"/>
              </a:rPr>
              <a:t>Could this one convers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98cff"/>
                </a:solidFill>
                <a:latin typeface="Arial"/>
              </a:rPr>
              <a:t>change his lif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H="1">
            <a:off x="3581280" y="5334120"/>
            <a:ext cx="1524240" cy="30456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6477120" y="5486400"/>
            <a:ext cx="533160" cy="91440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679760" y="548640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Hernando Corté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098760" y="649116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Montezuma: Aztec Ru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p of his Trav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http://www.whatdoyaknow.com/Curriculum-term1and2/Curriculum%20Stuff-2003/Aztecs/Cortes-map066.gif"/>
          <p:cNvPicPr/>
          <p:nvPr/>
        </p:nvPicPr>
        <p:blipFill>
          <a:blip r:embed="rId1"/>
          <a:stretch/>
        </p:blipFill>
        <p:spPr>
          <a:xfrm>
            <a:off x="457200" y="1600200"/>
            <a:ext cx="7989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http://lambiek.net/pontiac_exhibition/artwork/pontiac_05.gif"/>
          <p:cNvPicPr/>
          <p:nvPr/>
        </p:nvPicPr>
        <p:blipFill>
          <a:blip r:embed="rId1"/>
          <a:stretch/>
        </p:blipFill>
        <p:spPr>
          <a:xfrm>
            <a:off x="5638680" y="2133720"/>
            <a:ext cx="2819520" cy="39243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nquering the Aztecs (continued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his is a turning point in Hernando Cortés's lif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In 1519 he reach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enochtit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Aztecs surrender in 15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http://karenswhimsy.com/public-domain-images/aztec-indians/images/aztec-indians-3.jpg"/>
          <p:cNvPicPr/>
          <p:nvPr/>
        </p:nvPicPr>
        <p:blipFill>
          <a:blip r:embed="rId1"/>
          <a:stretch/>
        </p:blipFill>
        <p:spPr>
          <a:xfrm>
            <a:off x="5867280" y="1447920"/>
            <a:ext cx="2629080" cy="3924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ter the Azte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enochtitlan became Mexico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Peace with Ind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Started farms and m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Sponsored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Building more ci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Converted Native Americans to Roman Catho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ter the Aztecs (continue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1526 suspended from being govern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Accused of poisoning new lead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ime when Spain chang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government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Conquista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http://www.bbc.co.uk/history/historic_figures/images/cortes_hernan.jpg"/>
          <p:cNvPicPr/>
          <p:nvPr/>
        </p:nvPicPr>
        <p:blipFill>
          <a:blip r:embed="rId1"/>
          <a:stretch/>
        </p:blipFill>
        <p:spPr>
          <a:xfrm>
            <a:off x="5969160" y="2895480"/>
            <a:ext cx="2352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ter Ye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Now is a time when Hernando’s murderous actions cost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ravels back to Spain (152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Received minimum re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Went back to New Spain (15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p of the Worl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world-map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ter Years (continue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In New Spain he wanted to convince the government to give him powe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Didn’t succ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After many years of trying to prove his innocence he made himself a palace in Cuernava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his is his most unsuccessful time of his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ernavaca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pict51"/>
          <p:cNvPicPr/>
          <p:nvPr/>
        </p:nvPicPr>
        <p:blipFill>
          <a:blip r:embed="rId1"/>
          <a:stretch/>
        </p:blipFill>
        <p:spPr>
          <a:xfrm>
            <a:off x="762120" y="1371600"/>
            <a:ext cx="701028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ter Years (continue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 didn’t stay put in his pa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Made expeditions to lower Califo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Not very success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Once again returned to S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 was just neg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By now he was not welcome anywhere and very much in deb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nd of Lif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pleurisy"/>
          <p:cNvPicPr/>
          <p:nvPr/>
        </p:nvPicPr>
        <p:blipFill>
          <a:blip r:embed="rId1"/>
          <a:stretch/>
        </p:blipFill>
        <p:spPr>
          <a:xfrm>
            <a:off x="4762440" y="4000680"/>
            <a:ext cx="4381560" cy="2857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By now he has given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 attempted to return to 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Never mad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Died on December 2</a:t>
            </a:r>
            <a:r>
              <a:rPr b="0" lang="en-US" sz="3200" spc="-1" strike="noStrike" baseline="30000">
                <a:solidFill>
                  <a:srgbClr val="a98c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 154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 died of pleuri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Pleurisy- inflamm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in the lungs and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Murderer: 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he Life of Hernando Cortés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By: Haley Silver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nd of Life (continue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 died at a monastery near Seville, S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ad gone from being very successful to a very disliked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So determined to be powerful, and li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It controlled his a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Prevented him from enjoying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ville Spa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spain_map"/>
          <p:cNvPicPr/>
          <p:nvPr/>
        </p:nvPicPr>
        <p:blipFill>
          <a:blip r:embed="rId1"/>
          <a:stretch/>
        </p:blipFill>
        <p:spPr>
          <a:xfrm>
            <a:off x="1219320" y="1295280"/>
            <a:ext cx="65530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v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Answer this question on a piece of scratch paper. Describe three main things about Hernando Corté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Conquered the Azte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Was successful and unsuccess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Very murderous, and let power, and glory get to h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rap 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Childhood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Uninterested in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Wanted to rule land, and be powerful and r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Adulthood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Defeated the Azte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Set up his reputation that would ruin his later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rap up (continue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Later Years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Spent years trying to repair re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Traveled between Spain and New Sp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Died in S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1640" y="1447920"/>
            <a:ext cx="3886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ow this relates to the theme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rnando Cortés was a Spanish Conquistad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Spanish conquistadors helped conquer land for Spain in the Amer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hroughout our history we will come in contact with Spanish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hat is how Hernando Cortés relates to the theme of Origi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 you have any question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The student will be able to describe three main ideas about Hernando Corté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What was he li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What was his main accomplish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What were his mistak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rnando Cortés Child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Born 18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Kingdom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Castile, S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6" descr="Castilla_1210"/>
          <p:cNvPicPr/>
          <p:nvPr/>
        </p:nvPicPr>
        <p:blipFill>
          <a:blip r:embed="rId1"/>
          <a:stretch/>
        </p:blipFill>
        <p:spPr>
          <a:xfrm>
            <a:off x="3505320" y="1676520"/>
            <a:ext cx="38653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ildhood (continue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Upper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ad an anti-social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 attended school but failed most of his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Dropped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http://t1.gstatic.com/images?q=tbn:bSJlQ-WagMxsNM:http://27.media.tumblr.com/tumblr_kz6dupX1Si1qasssyo1_4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3429000"/>
            <a:ext cx="28195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Young Adulthood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Fascinated by the new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Became a sold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Never sailed until he was 18 years 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Sailed to Hispani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http://pirates.missiledine.com/images/maps/Hispaniola.jpg"/>
          <p:cNvPicPr/>
          <p:nvPr/>
        </p:nvPicPr>
        <p:blipFill>
          <a:blip r:embed="rId1"/>
          <a:stretch/>
        </p:blipFill>
        <p:spPr>
          <a:xfrm>
            <a:off x="3733920" y="4413240"/>
            <a:ext cx="5410080" cy="24447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1001520" y="52578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ispani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Straight Arrow Connector 8"/>
          <p:cNvCxnSpPr/>
          <p:nvPr/>
        </p:nvCxnSpPr>
        <p:spPr>
          <a:xfrm>
            <a:off x="3124080" y="5562720"/>
            <a:ext cx="457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http://farm3.static.flickr.com/2454/3965048729_7b9cf5962f_b.jpg"/>
          <p:cNvPicPr/>
          <p:nvPr/>
        </p:nvPicPr>
        <p:blipFill>
          <a:blip r:embed="rId1"/>
          <a:stretch/>
        </p:blipFill>
        <p:spPr>
          <a:xfrm>
            <a:off x="6858000" y="2057400"/>
            <a:ext cx="2009880" cy="3886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Young Adulthood (continue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In Hispaniola, he was a wealthy farmer and sold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Very successful and well lik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Was elected May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efore Cortés Sets Sai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During the time before Hernando Cortés set out to conquer more land, he was in an affai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One night he climbed up a wall to visit his mistress, but the wall crumbl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 fell in the rubble and was hu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Due to his injury he was stuck in bed when the ship depar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quering the Azte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Personality changes once he sets s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 becomes a murder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Won’t let any man, woman, or child get in his way of gl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his was common in Spanish Conquista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5:38:15Z</dcterms:created>
  <dc:creator>Steve</dc:creator>
  <dc:description/>
  <dc:language>en-US</dc:language>
  <cp:lastModifiedBy>nstarzynski</cp:lastModifiedBy>
  <dcterms:modified xsi:type="dcterms:W3CDTF">2010-10-14T16:22:29Z</dcterms:modified>
  <cp:revision>22</cp:revision>
  <dc:subject/>
  <dc:title>Slide 1</dc:title>
</cp:coreProperties>
</file>